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drumroll.wav" ContentType="audio/x-wav"/>
  <Override PartName="/ppt/media/image14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BD8-81C9-4E29-800B-C279C7B4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FD3-1F47-4342-A316-D61B7A6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59AFD-136F-4A9E-8AF3-06BDD62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0FD0-3CCB-4DDA-BFC0-8FF9F73C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3F034-B7CB-4D6A-AAB6-A26C2A9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AC012-0188-457F-97D8-063E9653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8CF63-9404-4D5E-9F89-4C70083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00CFE-3FBD-48AB-893D-BE8B5CB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A2533-63AB-4314-8A07-29AC566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C298-5B12-4751-B95E-0B783A55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C5524-B99B-4CB5-9D3A-7E3492F9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8A1-62D0-4763-9839-29D6F1B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C0E-EEA7-47F2-AD83-343FFE9A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6E32-4ADA-44E7-944C-92806E7D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79DD-F38D-4D68-9298-6C8EB70A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0428-0523-4A17-9499-357FECA4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E9D0-DE25-47C9-B503-6E89DE9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391-3EFB-414E-9FCA-62442E8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7DC-E661-4B64-B55C-1320365C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827-D480-40BC-851D-107D3C1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69-1AB0-4AA8-B2DC-C2DB36FA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0B4B-84FE-4314-A25A-54D5F59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22A-2E58-4CD7-BDB4-CF1C8D4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50C-367C-49FF-A6A6-B5841E6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985B-6E59-43D0-81FC-876849B8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CE57-4F2D-4569-8D6D-D1F43EA3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EAD1-9EED-4AD4-99E1-5C4688F8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A6DB-F0F5-480B-900C-35B46C55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1977-BEE3-4BEC-B75B-29272EAA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0EC5-6D84-4461-A123-2756B86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8695-19A2-4621-9596-7F601AF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8B0-B5EB-413C-97F2-8E30A42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AF92-C635-4943-BFCE-31E644E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1959-FC1C-4252-89CC-A6710F8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4D4F-C0A8-49F5-B8CD-325A3F6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CC32-C328-4064-8A7E-B8FB632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121E-5ACD-434E-B6A9-9F760F82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4121-85E6-4158-A2F0-CCB8DC3B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FBA2-83AE-4561-940D-A3B486D5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6486-2E43-445C-91DE-430BA57C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5159-6F02-4401-AB5A-703B76D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0276-F1A6-43EB-9F88-40C7B3C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CD8-6827-4B21-BBBF-C3A2B3AA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F863-DD69-4481-8FAB-AC43F27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0DFA-0002-4D23-8BB5-C7DEE506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3F3E-D67F-4570-AE8A-83B65F78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8D0D-B4AE-4D24-AF37-BEC53F9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8737-9184-4437-A1F6-792A99A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E6D6-2267-4568-B3FC-9AB8C76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CA83-1991-47FD-A44E-0BB738F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10A9-BAE4-46EA-9605-11A1E3FC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C6D4-F76F-435B-9BE7-C150AE70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B5CA-53EE-4223-8D2A-B17B4BD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9FC-46C3-480D-B513-A76D418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5399-14BC-445A-B0F5-2C8825D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C7AE-7906-455F-B5EB-87FFBAE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8649-1B90-42D6-AC73-A2A88DFA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5D8F-9B8C-485B-8FA1-AF100E2B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B79C-38AD-44D4-A443-ED0E4081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C56B-8CDA-442D-8D52-88D009B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43CA-7D73-4992-BA51-6DD0E81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28D1E-FAF7-47B3-B01A-CA8AB9D4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31F6-EF71-46B9-9E95-0AF12CEC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FCA6-A085-4E91-AC14-D90EDA19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1A5-F116-43D3-BCAC-55C2D30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1B9E-ED72-4867-BEF6-1325EEF1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3777-D3C8-46EF-9985-85194948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439F-8C98-4F06-A4EE-237FA6F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A4D2-0B75-48E6-A3A6-969FE68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B592-7FD3-4533-98BE-699419F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F734-79C7-4FED-8A18-CEAD694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0FC6-4CD7-4B89-8F8D-5DDA1D28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21BD-AA33-4851-A505-C6BCCF6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63689-0B89-42BA-BADF-6587DF0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C559-7164-45B5-97C4-B7808D1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93C-9BE0-4288-A0F4-D26E0C29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1433E-E628-4233-B6DE-6B5D0B5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5821-688B-4F8B-930D-54F11393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87DF-B734-494B-81D9-52B8429C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CCE4-F8C5-46BC-A4C9-2093EFBB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1C3B-98B1-476A-9468-DF02FDC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BFD1-78EF-4590-9BB6-042EA63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3C530-8F3B-4F87-AF82-DB7B068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3BAC-83CB-40B5-8722-D937188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BFF4-967C-451A-BC96-9F75A5A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09EF-F786-4A1F-A70A-8E3EC15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7B3-AC11-41D0-B205-029E50A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2FEA6-7732-4862-A30F-3CF2265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1D2E-EC63-4D4E-9E4D-CF42BAE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AA23-4CE7-43BD-8F5D-040FDC3D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7C37-71B5-4D99-BDD6-F2FDC189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B568-94F6-4075-9DAA-5470C501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9B9A-396B-4608-AFF8-A47785AE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F0E28-2D8C-49FB-B53D-980E3906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E1964-0B23-479E-AF3C-F686FB2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F2D62-E94C-4BE5-AF7D-0CA6F92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9EAD-8A1F-40A9-A392-70A54D7B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E4A-26D5-451B-A898-8B4E3F4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DAAAE-FC35-4CE2-8874-35D8972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37AD-B475-456B-9D17-A0B9A6C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2914-86B9-4585-AD7F-91A576D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3053C-B6C1-4976-969B-C491F27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CFD3-B3FB-42DE-A1C1-3CBA6FF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504A-C3AC-4D04-8114-311A11EB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19DD-61BD-4B91-A095-1F4ACCA7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1DFF3-4D94-4493-814D-1D637755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B2158-3C15-42AA-8DE0-26059E9E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DAF6D-39E3-462A-BD4F-734EEBA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CAB-92AE-43EC-BAF4-978DD4F871D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852-057A-4011-B8F8-651DF8C645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D3DD-626E-48F6-A36B-760DACBA408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221D-CE33-453B-B720-46FD259AE9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9AE9-1715-4E8F-AFFF-9B40C9302E1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13A-B5F8-4AC2-B089-B15C42606A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6863-2991-4117-942B-89090214EC4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A73-93D5-4F44-9512-5EBEE2AC3F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D9FD-545C-45A6-8A81-00ACA8E8278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0E5F-EA21-4AF9-87DB-DCF4CFC1E1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D720-F467-43E4-9F48-97C6CB4C3C6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569-A450-4AB7-B968-60210822AC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D60-EF58-4082-8F51-74EFAAC4C66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8399-62BC-42D4-A670-C46CCAA6D5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10F-A3B4-4EAC-A164-C20834CC8F5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2A9-EB03-4308-9262-66EFDFA26A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3471-A027-445D-9BAD-E1447ECA531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018-B0AD-46A4-B4A8-E6E572E326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8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7.xml"/><Relationship Id="rId8" Type="http://schemas.openxmlformats.org/officeDocument/2006/relationships/image" Target="../media/image8.png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slide" Target="slide11.xml"/><Relationship Id="rId16" Type="http://schemas.openxmlformats.org/officeDocument/2006/relationships/image" Target="../media/image8.png"/><Relationship Id="rId17" Type="http://schemas.openxmlformats.org/officeDocument/2006/relationships/slide" Target="slide12.xml"/><Relationship Id="rId18" Type="http://schemas.openxmlformats.org/officeDocument/2006/relationships/image" Target="../media/image8.png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" Target="slide10.xml"/><Relationship Id="rId24" Type="http://schemas.openxmlformats.org/officeDocument/2006/relationships/image" Target="../media/image8.png"/><Relationship Id="rId25" Type="http://schemas.openxmlformats.org/officeDocument/2006/relationships/slide" Target="slide13.xml"/><Relationship Id="rId26" Type="http://schemas.openxmlformats.org/officeDocument/2006/relationships/slide" Target="slide10.xml"/><Relationship Id="rId27" Type="http://schemas.openxmlformats.org/officeDocument/2006/relationships/slide" Target="slide15.xml"/><Relationship Id="rId28" Type="http://schemas.openxmlformats.org/officeDocument/2006/relationships/slide" Target="slide14.xml"/><Relationship Id="rId29" Type="http://schemas.openxmlformats.org/officeDocument/2006/relationships/image" Target="../media/image9.png"/><Relationship Id="rId30" Type="http://schemas.openxmlformats.org/officeDocument/2006/relationships/slide" Target="slide14.xml"/><Relationship Id="rId31" Type="http://schemas.openxmlformats.org/officeDocument/2006/relationships/image" Target="../media/image9.png"/><Relationship Id="rId32" Type="http://schemas.openxmlformats.org/officeDocument/2006/relationships/slide" Target="slide19.xml"/><Relationship Id="rId33" Type="http://schemas.openxmlformats.org/officeDocument/2006/relationships/slide" Target="slide16.xml"/><Relationship Id="rId34" Type="http://schemas.openxmlformats.org/officeDocument/2006/relationships/slide" Target="slide17.xml"/><Relationship Id="rId35" Type="http://schemas.openxmlformats.org/officeDocument/2006/relationships/image" Target="../media/image9.png"/><Relationship Id="rId36" Type="http://schemas.openxmlformats.org/officeDocument/2006/relationships/slide" Target="slide18.xml"/><Relationship Id="rId37" Type="http://schemas.openxmlformats.org/officeDocument/2006/relationships/image" Target="../media/image9.png"/><Relationship Id="rId38" Type="http://schemas.openxmlformats.org/officeDocument/2006/relationships/slide" Target="slide17.xml"/><Relationship Id="rId39" Type="http://schemas.openxmlformats.org/officeDocument/2006/relationships/slide" Target="slide18.xml"/><Relationship Id="rId4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.xm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82560" y="384120"/>
            <a:ext cx="8491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7762-27D2-40F8-A691-BAFD9867E2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8"/>
          <p:cNvSpPr/>
          <p:nvPr/>
        </p:nvSpPr>
        <p:spPr>
          <a:xfrm>
            <a:off x="142920" y="1484280"/>
            <a:ext cx="90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бязаны сделать жители города Воронежа услышав звук сир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01" name="Скругленный прямоугольник 1"/>
          <p:cNvSpPr/>
          <p:nvPr/>
        </p:nvSpPr>
        <p:spPr>
          <a:xfrm>
            <a:off x="1042920" y="2924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нить в управляющую компанию для  уточнения порядка действ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ый прямоугольник 12"/>
          <p:cNvSpPr/>
          <p:nvPr/>
        </p:nvSpPr>
        <p:spPr>
          <a:xfrm>
            <a:off x="5003640" y="2924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4813200" y="2924280"/>
            <a:ext cx="3359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ключить радио или региональный телека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ля прослуши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чевой информации и далее действовать соглас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ученной информ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Скругленный прямоугольник 14"/>
          <p:cNvSpPr/>
          <p:nvPr/>
        </p:nvSpPr>
        <p:spPr>
          <a:xfrm>
            <a:off x="5003640" y="465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кругленный прямоугольник 15"/>
          <p:cNvSpPr/>
          <p:nvPr/>
        </p:nvSpPr>
        <p:spPr>
          <a:xfrm>
            <a:off x="1187280" y="465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"/>
          <p:cNvSpPr/>
          <p:nvPr/>
        </p:nvSpPr>
        <p:spPr>
          <a:xfrm>
            <a:off x="1547640" y="4797360"/>
            <a:ext cx="2068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н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ГУ МЧС Ро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 Воронежской области или в ЕДДС 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4959000" y="4941720"/>
            <a:ext cx="293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нить в упра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йона города для уточ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рядка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60E-CC51-4EF8-8654-DF05F21E62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8"/>
          <p:cNvSpPr/>
          <p:nvPr/>
        </p:nvSpPr>
        <p:spPr>
          <a:xfrm>
            <a:off x="100080" y="126828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гнетушителем нельзя тушить электроприборы находящиеся под напря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12" name="Скругленный прямоугольник 1"/>
          <p:cNvSpPr/>
          <p:nvPr/>
        </p:nvSpPr>
        <p:spPr>
          <a:xfrm>
            <a:off x="1042920" y="2852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ошк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Скругленный прямоугольник 12"/>
          <p:cNvSpPr/>
          <p:nvPr/>
        </p:nvSpPr>
        <p:spPr>
          <a:xfrm>
            <a:off x="5219640" y="4581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Скругленный прямоугольник 13"/>
          <p:cNvSpPr/>
          <p:nvPr/>
        </p:nvSpPr>
        <p:spPr>
          <a:xfrm>
            <a:off x="5219640" y="2852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Скругленный прямоугольник 14"/>
          <p:cNvSpPr/>
          <p:nvPr/>
        </p:nvSpPr>
        <p:spPr>
          <a:xfrm>
            <a:off x="1187280" y="465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187280" y="5157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люб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4"/>
          <p:cNvSpPr/>
          <p:nvPr/>
        </p:nvSpPr>
        <p:spPr>
          <a:xfrm>
            <a:off x="5219640" y="3357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лекисло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6"/>
          <p:cNvSpPr/>
          <p:nvPr/>
        </p:nvSpPr>
        <p:spPr>
          <a:xfrm>
            <a:off x="5219640" y="5013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дным или п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BA68-248D-45FE-9172-38736B16C0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8"/>
          <p:cNvSpPr/>
          <p:nvPr/>
        </p:nvSpPr>
        <p:spPr>
          <a:xfrm>
            <a:off x="142920" y="1484280"/>
            <a:ext cx="90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тносится к опасным метеорологическим явлениям, которые часто происходят на территории города Воронеж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23" name="Скругленный прямоугольник 1"/>
          <p:cNvSpPr/>
          <p:nvPr/>
        </p:nvSpPr>
        <p:spPr>
          <a:xfrm>
            <a:off x="1116000" y="3573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аган, оползни, очень сильный дождь со сне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ый прямоугольник 12"/>
          <p:cNvSpPr/>
          <p:nvPr/>
        </p:nvSpPr>
        <p:spPr>
          <a:xfrm>
            <a:off x="1116000" y="5373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упный град, сильный туман, очень сильный дождь со сне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13"/>
          <p:cNvSpPr/>
          <p:nvPr/>
        </p:nvSpPr>
        <p:spPr>
          <a:xfrm>
            <a:off x="5435640" y="5445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суха, навод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Скругленный прямоугольник 14"/>
          <p:cNvSpPr/>
          <p:nvPr/>
        </p:nvSpPr>
        <p:spPr>
          <a:xfrm>
            <a:off x="5435640" y="3645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есные пожары, бури, сильный ту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"/>
          <p:cNvSpPr/>
          <p:nvPr/>
        </p:nvSpPr>
        <p:spPr>
          <a:xfrm>
            <a:off x="6759720" y="335772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6791400" y="551664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2462040" y="515772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974-A87C-43D9-82A6-8023158B0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8"/>
          <p:cNvSpPr/>
          <p:nvPr/>
        </p:nvSpPr>
        <p:spPr>
          <a:xfrm>
            <a:off x="142920" y="148428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Ваши обязательные действия, если на месте террористического  акта произошёл взры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34" name="Скругленный прямоугольник 1"/>
          <p:cNvSpPr/>
          <p:nvPr/>
        </p:nvSpPr>
        <p:spPr>
          <a:xfrm>
            <a:off x="1187280" y="3141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койно уточнить обстановку, покинуть место взрыва, продвигаясь осторожно, не трогать поврежденные конструкции и оголившиеся про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Скругленный прямоугольник 12"/>
          <p:cNvSpPr/>
          <p:nvPr/>
        </p:nvSpPr>
        <p:spPr>
          <a:xfrm>
            <a:off x="118728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13"/>
          <p:cNvSpPr/>
          <p:nvPr/>
        </p:nvSpPr>
        <p:spPr>
          <a:xfrm>
            <a:off x="529272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14"/>
          <p:cNvSpPr/>
          <p:nvPr/>
        </p:nvSpPr>
        <p:spPr>
          <a:xfrm>
            <a:off x="5364000" y="3068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0"/>
          <p:cNvSpPr/>
          <p:nvPr/>
        </p:nvSpPr>
        <p:spPr>
          <a:xfrm>
            <a:off x="5435640" y="3213000"/>
            <a:ext cx="271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о покинуть место взрыва, громким голосом предупредить окружающих о взры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5292720" y="5445000"/>
            <a:ext cx="283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жидаться помощи спасателей на мес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двигаться и не кр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1332000" y="5162760"/>
            <a:ext cx="255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 задымлении защитить органы дыхания мокрым платком, полотенцем или любой тка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2501-6973-4829-925B-62525837B1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108240" y="-85680"/>
            <a:ext cx="2170080" cy="14810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8"/>
          <p:cNvSpPr/>
          <p:nvPr/>
        </p:nvSpPr>
        <p:spPr>
          <a:xfrm>
            <a:off x="142920" y="1484280"/>
            <a:ext cx="904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ую первую помощь необходимо оказать пострадавш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оражении А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45" name="Скругленный прямоугольник 1"/>
          <p:cNvSpPr/>
          <p:nvPr/>
        </p:nvSpPr>
        <p:spPr>
          <a:xfrm>
            <a:off x="1042920" y="3357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1042920" y="3552480"/>
            <a:ext cx="28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Дать пострадавш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йодистый пре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и подышать нашатырным спи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кругленный прямоугольник 13"/>
          <p:cNvSpPr/>
          <p:nvPr/>
        </p:nvSpPr>
        <p:spPr>
          <a:xfrm>
            <a:off x="529272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кругленный прямоугольник 14"/>
          <p:cNvSpPr/>
          <p:nvPr/>
        </p:nvSpPr>
        <p:spPr>
          <a:xfrm>
            <a:off x="5292720" y="3357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15"/>
          <p:cNvSpPr/>
          <p:nvPr/>
        </p:nvSpPr>
        <p:spPr>
          <a:xfrm>
            <a:off x="104292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/>
          <p:cNvSpPr/>
          <p:nvPr/>
        </p:nvSpPr>
        <p:spPr>
          <a:xfrm>
            <a:off x="1042920" y="5373720"/>
            <a:ext cx="279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сти реанимационные мероприятия, у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е беспоко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5302440" y="3500280"/>
            <a:ext cx="2815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жить на ров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ть, дать обильное пи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9"/>
          <p:cNvSpPr/>
          <p:nvPr/>
        </p:nvSpPr>
        <p:spPr>
          <a:xfrm>
            <a:off x="5219640" y="5229360"/>
            <a:ext cx="27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нести пострадавшего из зоны заражения, дать обильное питье, промыть глаза и лицо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272-86E2-495A-A76B-249443C5BF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103560" y="-85680"/>
            <a:ext cx="2181240" cy="14810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8"/>
          <p:cNvSpPr/>
          <p:nvPr/>
        </p:nvSpPr>
        <p:spPr>
          <a:xfrm>
            <a:off x="142920" y="148428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часть населения, находящаяся на территории городского округа город Воронеж, подлежит защите в случае возникновения Ч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57" name="Скругленный прямоугольник 1"/>
          <p:cNvSpPr/>
          <p:nvPr/>
        </p:nvSpPr>
        <p:spPr>
          <a:xfrm>
            <a:off x="1042920" y="3573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ё население горо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также иностранные граждане, которые официально </a:t>
            </a:r>
            <a:r>
              <a:rPr b="0" i="1" lang="ru-RU" sz="2000" spc="-1" strike="noStrike">
                <a:solidFill>
                  <a:srgbClr val="ffffff"/>
                </a:solidFill>
                <a:latin typeface="Franklin Gothic Book"/>
              </a:rPr>
              <a:t>зарегистрированы на данно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13"/>
          <p:cNvSpPr/>
          <p:nvPr/>
        </p:nvSpPr>
        <p:spPr>
          <a:xfrm>
            <a:off x="1116000" y="5373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граждане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кругленный прямоугольник 14"/>
          <p:cNvSpPr/>
          <p:nvPr/>
        </p:nvSpPr>
        <p:spPr>
          <a:xfrm>
            <a:off x="5148360" y="5300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лько население города Ворон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15"/>
          <p:cNvSpPr/>
          <p:nvPr/>
        </p:nvSpPr>
        <p:spPr>
          <a:xfrm>
            <a:off x="5148360" y="3573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ё население горо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также иностранные граждане и лица без гражданства, находящиеся на данной тер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9D67-0378-4298-BB5A-8622C2A3F9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097080" y="-85680"/>
            <a:ext cx="2194200" cy="14810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8"/>
          <p:cNvSpPr/>
          <p:nvPr/>
        </p:nvSpPr>
        <p:spPr>
          <a:xfrm>
            <a:off x="100080" y="177336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 качестве простейших укрытий могут использовать жители города Воронежа в условиях военного конфли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65" name="Скругленный прямоугольник 1"/>
          <p:cNvSpPr/>
          <p:nvPr/>
        </p:nvSpPr>
        <p:spPr>
          <a:xfrm>
            <a:off x="1042920" y="3429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ежища, противорадиационные укры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12"/>
          <p:cNvSpPr/>
          <p:nvPr/>
        </p:nvSpPr>
        <p:spPr>
          <a:xfrm>
            <a:off x="104292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бежища, укрытия, любое подземное пространство г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13"/>
          <p:cNvSpPr/>
          <p:nvPr/>
        </p:nvSpPr>
        <p:spPr>
          <a:xfrm>
            <a:off x="521964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лько убеж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4"/>
          <p:cNvSpPr/>
          <p:nvPr/>
        </p:nvSpPr>
        <p:spPr>
          <a:xfrm>
            <a:off x="5219640" y="3429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лько противорадиационные укры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CE83-A77D-4190-9715-DEDCA5CB9B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103560" y="-85680"/>
            <a:ext cx="2187720" cy="14810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8"/>
          <p:cNvSpPr/>
          <p:nvPr/>
        </p:nvSpPr>
        <p:spPr>
          <a:xfrm>
            <a:off x="100080" y="170028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обходимо сделать немедленно, если на Вас загорелась одеж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73" name="Скругленный прямоугольник 1"/>
          <p:cNvSpPr/>
          <p:nvPr/>
        </p:nvSpPr>
        <p:spPr>
          <a:xfrm>
            <a:off x="1042920" y="3500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042920" y="3466440"/>
            <a:ext cx="28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Быстро бежать к месту, где имеется вода или иные средства тушения, на ходу срывая горящую од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13"/>
          <p:cNvSpPr/>
          <p:nvPr/>
        </p:nvSpPr>
        <p:spPr>
          <a:xfrm>
            <a:off x="5148360" y="3500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кругленный прямоугольник 14"/>
          <p:cNvSpPr/>
          <p:nvPr/>
        </p:nvSpPr>
        <p:spPr>
          <a:xfrm>
            <a:off x="514836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кругленный прямоугольник 15"/>
          <p:cNvSpPr/>
          <p:nvPr/>
        </p:nvSpPr>
        <p:spPr>
          <a:xfrm>
            <a:off x="1042920" y="5300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1042920" y="5280480"/>
            <a:ext cx="28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оспользоваться имеющимися первичными средствами пожароту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5536800" y="56610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ать на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5219640" y="3588120"/>
            <a:ext cx="269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становиться, уп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 землю (по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и перекатываться, сбивая пла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94D9-D1F7-4837-88C7-CEB2DE08B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108240" y="-85680"/>
            <a:ext cx="2170080" cy="148104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8"/>
          <p:cNvSpPr/>
          <p:nvPr/>
        </p:nvSpPr>
        <p:spPr>
          <a:xfrm>
            <a:off x="142920" y="1844640"/>
            <a:ext cx="90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ошло возгорание электропроводки. Вы находитесь дома. Ваши действ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85" name="Скругленный прямоугольник 1"/>
          <p:cNvSpPr/>
          <p:nvPr/>
        </p:nvSpPr>
        <p:spPr>
          <a:xfrm>
            <a:off x="1042920" y="321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о отключить все электроприборы, звонить по номеру «112», не прикасаться к  электропрово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кругленный прямоугольник 12"/>
          <p:cNvSpPr/>
          <p:nvPr/>
        </p:nvSpPr>
        <p:spPr>
          <a:xfrm>
            <a:off x="5508720" y="5157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Скругленный прямоугольник 13"/>
          <p:cNvSpPr/>
          <p:nvPr/>
        </p:nvSpPr>
        <p:spPr>
          <a:xfrm>
            <a:off x="5580000" y="321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кругленный прямоугольник 14"/>
          <p:cNvSpPr/>
          <p:nvPr/>
        </p:nvSpPr>
        <p:spPr>
          <a:xfrm>
            <a:off x="971640" y="5157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971640" y="5234400"/>
            <a:ext cx="277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емедленно позвонить по номеру «112», источник возгорания залить водой или  накрыть плотной тка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6378480" y="364500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кинуть 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80000" y="519768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тключить электроэнергию, потушить очаг возгорания, если не удалось потушить, то немедленно покинуть дом и позвонить по номеру «11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7BBB-AB44-47B9-B0DE-A9520ECCA9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103560" y="-85680"/>
            <a:ext cx="2181240" cy="1481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8"/>
          <p:cNvSpPr/>
          <p:nvPr/>
        </p:nvSpPr>
        <p:spPr>
          <a:xfrm>
            <a:off x="142920" y="1484280"/>
            <a:ext cx="90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еобходимо передвигаться в сильно задымлённом помещ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596" name="Скругленный прямоугольник 1"/>
          <p:cNvSpPr/>
          <p:nvPr/>
        </p:nvSpPr>
        <p:spPr>
          <a:xfrm>
            <a:off x="971640" y="3141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1042920" y="3350160"/>
            <a:ext cx="27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Быстро пробежать задымленную зону, задержав дых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13"/>
          <p:cNvSpPr/>
          <p:nvPr/>
        </p:nvSpPr>
        <p:spPr>
          <a:xfrm>
            <a:off x="5148360" y="3141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14"/>
          <p:cNvSpPr/>
          <p:nvPr/>
        </p:nvSpPr>
        <p:spPr>
          <a:xfrm>
            <a:off x="514836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15"/>
          <p:cNvSpPr/>
          <p:nvPr/>
        </p:nvSpPr>
        <p:spPr>
          <a:xfrm>
            <a:off x="90000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2"/>
          <p:cNvSpPr/>
          <p:nvPr/>
        </p:nvSpPr>
        <p:spPr>
          <a:xfrm>
            <a:off x="971640" y="5229360"/>
            <a:ext cx="279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ражданам запрещено передвигаться в сильно задымленном поме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5148360" y="544500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роткими перебеж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сторону вы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0"/>
          <p:cNvSpPr/>
          <p:nvPr/>
        </p:nvSpPr>
        <p:spPr>
          <a:xfrm>
            <a:off x="5003640" y="3213000"/>
            <a:ext cx="2934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лзком или пригнувшись, придерживаясь стен для ориентировки, рот и нос закрыть мокрой повяз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979D-1396-4F04-8CDB-C4E2CA57BFE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79280" y="0"/>
            <a:ext cx="885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йдите в режим показа слайдов нажав команду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КАЗ СЛАЙДОВ»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панели инструментов вверху экрана, а затем команду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ТЕКУЩЕГО СЛАЙДА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левом верхнем углу эк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Перейдите на слай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АШ ВЫБОР ВОПРОСА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нажав на значок 1 вопроса перейдите к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Внимательно прочитайте вопрос и варианты ответов. Выберите ответ, который Вы считаете правильным, наведите на него курсор и щёлкните левой клавишей «мышки». Если Вы даже нажали на неправильный ответ, окно правильного ответа увеличится, а сам правильный ответ изменит цвет с чёрного на кр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Проанализируйте результаты Вашей работы и запишите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БЛАНК ОТВЕТОВ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лайд 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слайде или в распечатанный вариант бл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Наведите курсор на значо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ДОМИК»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оложенный в верхнем правом углу слайда, щелкните левой клавишей «мышки» и перейдите на страницу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Ш ВЫБОР ВОПРОСА». Выберите 2 вопрос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Если Вы затрудняетесь сразу ответить на вопрос, перейдите к следующему вопросу и продолжите работу. К пропущенному вопросу можно вернуться позд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4B33-0604-44D0-836A-B3E0BDBFE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9640" y="1197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за совместную работу !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4084-6D93-448A-88E8-00E6E93BBF3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179280" y="115920"/>
            <a:ext cx="8713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50920" y="907920"/>
          <a:ext cx="8712000" cy="2087640"/>
        </p:xfrm>
        <a:graphic>
          <a:graphicData uri="http://schemas.openxmlformats.org/drawingml/2006/table">
            <a:tbl>
              <a:tblPr/>
              <a:tblGrid>
                <a:gridCol w="2225520"/>
                <a:gridCol w="433440"/>
                <a:gridCol w="431640"/>
                <a:gridCol w="433440"/>
                <a:gridCol w="432000"/>
                <a:gridCol w="431640"/>
                <a:gridCol w="433440"/>
                <a:gridCol w="432000"/>
                <a:gridCol w="431640"/>
                <a:gridCol w="433440"/>
                <a:gridCol w="431640"/>
                <a:gridCol w="433440"/>
                <a:gridCol w="432000"/>
                <a:gridCol w="431640"/>
                <a:gridCol w="433440"/>
                <a:gridCol w="431640"/>
              </a:tblGrid>
              <a:tr h="260640">
                <a:tc rowSpan="2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АРИАНТЫ  ОТВЕТОВ (ПРАВИЛЬНО, НЕПРАВИ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5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А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АВИЛЬНО 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ПРАВИЛЬНО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Прямоугольник 8"/>
          <p:cNvSpPr/>
          <p:nvPr/>
        </p:nvSpPr>
        <p:spPr>
          <a:xfrm>
            <a:off x="250920" y="3645000"/>
            <a:ext cx="8785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 правильных ответов –  Вы просто СУПЕ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-9 правильных ответов – Вы МОЛОД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-7 правильных ответов – неплохо, но есть над чем рабо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-5 правильных ответов – слабова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-2 правильных ответа –   Вам надо изучать порядок дей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чрезвычайных ситуация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1DC6-DD74-48C4-95A1-40BCA511E1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Прямоугольник 18" descr=""/>
          <p:cNvPicPr/>
          <p:nvPr/>
        </p:nvPicPr>
        <p:blipFill>
          <a:blip r:embed="rId1"/>
          <a:stretch/>
        </p:blipFill>
        <p:spPr>
          <a:xfrm>
            <a:off x="378000" y="42840"/>
            <a:ext cx="8162640" cy="1200240"/>
          </a:xfrm>
          <a:prstGeom prst="rect">
            <a:avLst/>
          </a:prstGeom>
          <a:ln w="0">
            <a:noFill/>
          </a:ln>
        </p:spPr>
      </p:pic>
      <p:pic>
        <p:nvPicPr>
          <p:cNvPr id="408" name="Управляющая кнопка: в конец 24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7778880" y="5748480"/>
            <a:ext cx="1193760" cy="90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9040" y="1341360"/>
            <a:ext cx="1536840" cy="1146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47760" y="1341360"/>
            <a:ext cx="153684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3760" y="1335240"/>
            <a:ext cx="1536480" cy="1145880"/>
          </a:xfrm>
          <a:prstGeom prst="rect">
            <a:avLst/>
          </a:prstGeom>
          <a:ln w="0">
            <a:noFill/>
          </a:ln>
        </p:spPr>
      </p:pic>
      <p:sp>
        <p:nvSpPr>
          <p:cNvPr id="412" name="5-конечная звезда 25">
            <a:hlinkClick r:id="rId9" action="ppaction://hlinksldjump"/>
          </p:cNvPr>
          <p:cNvSpPr/>
          <p:nvPr/>
        </p:nvSpPr>
        <p:spPr>
          <a:xfrm>
            <a:off x="5516640" y="1376280"/>
            <a:ext cx="1439640" cy="1079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116840" y="1335240"/>
            <a:ext cx="1536480" cy="11458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2"/>
          <p:cNvSpPr/>
          <p:nvPr/>
        </p:nvSpPr>
        <p:spPr>
          <a:xfrm>
            <a:off x="955800" y="15318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>
            <a:hlinkClick r:id="rId12" action="ppaction://hlinksldjump"/>
          </p:cNvPr>
          <p:cNvSpPr/>
          <p:nvPr/>
        </p:nvSpPr>
        <p:spPr>
          <a:xfrm>
            <a:off x="2685600" y="153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>
            <a:hlinkClick r:id="rId13" action="ppaction://hlinksldjump"/>
          </p:cNvPr>
          <p:cNvSpPr/>
          <p:nvPr/>
        </p:nvSpPr>
        <p:spPr>
          <a:xfrm>
            <a:off x="4341240" y="15224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7">
            <a:hlinkClick r:id="rId14" action="ppaction://hlinksldjump"/>
          </p:cNvPr>
          <p:cNvSpPr/>
          <p:nvPr/>
        </p:nvSpPr>
        <p:spPr>
          <a:xfrm>
            <a:off x="7670160" y="153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4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095560" y="2595600"/>
            <a:ext cx="1536480" cy="114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5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803760" y="2595600"/>
            <a:ext cx="153648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3"/>
          <p:cNvSpPr/>
          <p:nvPr/>
        </p:nvSpPr>
        <p:spPr>
          <a:xfrm>
            <a:off x="955800" y="405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4">
            <a:hlinkClick r:id="rId19" action="ppaction://hlinksldjump"/>
          </p:cNvPr>
          <p:cNvSpPr/>
          <p:nvPr/>
        </p:nvSpPr>
        <p:spPr>
          <a:xfrm>
            <a:off x="2685600" y="28400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5">
            <a:hlinkClick r:id="rId20" action="ppaction://hlinksldjump"/>
          </p:cNvPr>
          <p:cNvSpPr/>
          <p:nvPr/>
        </p:nvSpPr>
        <p:spPr>
          <a:xfrm>
            <a:off x="4393800" y="2776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4" descr=""/>
          <p:cNvPicPr/>
          <p:nvPr/>
        </p:nvPicPr>
        <p:blipFill>
          <a:blip r:embed="rId21"/>
          <a:stretch/>
        </p:blipFill>
        <p:spPr>
          <a:xfrm>
            <a:off x="419040" y="3798720"/>
            <a:ext cx="1536840" cy="11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5" descr=""/>
          <p:cNvPicPr/>
          <p:nvPr/>
        </p:nvPicPr>
        <p:blipFill>
          <a:blip r:embed="rId22"/>
          <a:stretch/>
        </p:blipFill>
        <p:spPr>
          <a:xfrm>
            <a:off x="2116080" y="3808440"/>
            <a:ext cx="1536840" cy="114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3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19040" y="2620800"/>
            <a:ext cx="153684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5-конечная звезда 44">
            <a:hlinkClick r:id="rId25" action="ppaction://hlinksldjump"/>
          </p:cNvPr>
          <p:cNvSpPr/>
          <p:nvPr/>
        </p:nvSpPr>
        <p:spPr>
          <a:xfrm>
            <a:off x="5516640" y="2620800"/>
            <a:ext cx="1439640" cy="10810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>
            <a:hlinkClick r:id="rId26" action="ppaction://hlinksldjump"/>
          </p:cNvPr>
          <p:cNvSpPr/>
          <p:nvPr/>
        </p:nvSpPr>
        <p:spPr>
          <a:xfrm>
            <a:off x="941400" y="2840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7">
            <a:hlinkClick r:id="rId27" action="ppaction://hlinksldjump"/>
          </p:cNvPr>
          <p:cNvSpPr/>
          <p:nvPr/>
        </p:nvSpPr>
        <p:spPr>
          <a:xfrm>
            <a:off x="828720" y="4060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7107120" y="2587680"/>
            <a:ext cx="153684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9">
            <a:hlinkClick r:id="rId30" action="ppaction://hlinksldjump"/>
          </p:cNvPr>
          <p:cNvSpPr/>
          <p:nvPr/>
        </p:nvSpPr>
        <p:spPr>
          <a:xfrm>
            <a:off x="7513200" y="2862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9" descr=""/>
          <p:cNvPicPr/>
          <p:nvPr/>
        </p:nvPicPr>
        <p:blipFill>
          <a:blip r:embed="rId31"/>
          <a:stretch/>
        </p:blipFill>
        <p:spPr>
          <a:xfrm>
            <a:off x="7107120" y="3805200"/>
            <a:ext cx="1536840" cy="114624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0">
            <a:hlinkClick r:id="rId32" action="ppaction://hlinksldjump"/>
          </p:cNvPr>
          <p:cNvSpPr/>
          <p:nvPr/>
        </p:nvSpPr>
        <p:spPr>
          <a:xfrm>
            <a:off x="7530120" y="40989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1">
            <a:hlinkClick r:id="rId33" action="ppaction://hlinksldjump"/>
          </p:cNvPr>
          <p:cNvSpPr/>
          <p:nvPr/>
        </p:nvSpPr>
        <p:spPr>
          <a:xfrm>
            <a:off x="2513520" y="40892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3803760" y="3801960"/>
            <a:ext cx="1536480" cy="1146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9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5516640" y="3798720"/>
            <a:ext cx="153648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2">
            <a:hlinkClick r:id="rId38" action="ppaction://hlinksldjump"/>
          </p:cNvPr>
          <p:cNvSpPr/>
          <p:nvPr/>
        </p:nvSpPr>
        <p:spPr>
          <a:xfrm>
            <a:off x="4201200" y="40892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6">
            <a:hlinkClick r:id="rId39" action="ppaction://hlinksldjump"/>
          </p:cNvPr>
          <p:cNvSpPr/>
          <p:nvPr/>
        </p:nvSpPr>
        <p:spPr>
          <a:xfrm>
            <a:off x="5914080" y="4092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32AD-BD5F-4D71-9410-B19C37E10B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8"/>
          <p:cNvSpPr/>
          <p:nvPr/>
        </p:nvSpPr>
        <p:spPr>
          <a:xfrm>
            <a:off x="142920" y="1773360"/>
            <a:ext cx="88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обходимо сделать, если Вы почувствовали запах г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лом помещ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Управляющая кнопка: домой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442" name="Скругленный прямоугольник 1"/>
          <p:cNvSpPr/>
          <p:nvPr/>
        </p:nvSpPr>
        <p:spPr>
          <a:xfrm>
            <a:off x="1042920" y="321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2"/>
          <p:cNvSpPr/>
          <p:nvPr/>
        </p:nvSpPr>
        <p:spPr>
          <a:xfrm>
            <a:off x="2322360" y="52293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042920" y="3502800"/>
            <a:ext cx="27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ерекрыть краны на газопрово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звонить по номеру «0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4"/>
          <p:cNvSpPr/>
          <p:nvPr/>
        </p:nvSpPr>
        <p:spPr>
          <a:xfrm>
            <a:off x="111600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5148360" y="50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6"/>
          <p:cNvSpPr/>
          <p:nvPr/>
        </p:nvSpPr>
        <p:spPr>
          <a:xfrm>
            <a:off x="5148360" y="328464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5076720" y="3432600"/>
            <a:ext cx="28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ерекрыть специальный кран, открыть окна, позвонить по номеру «04»  с мобильного телеф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6"/>
          <p:cNvSpPr/>
          <p:nvPr/>
        </p:nvSpPr>
        <p:spPr>
          <a:xfrm>
            <a:off x="5266080" y="551664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кинуть поме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звонить по номеру «11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3"/>
          <p:cNvSpPr/>
          <p:nvPr/>
        </p:nvSpPr>
        <p:spPr>
          <a:xfrm>
            <a:off x="1116000" y="501336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емедленно прекратить пользование всеми приборами, перекрыть краны на газопроводах, открыть окна, не кур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звонить по номеру «11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68CB-09DF-4AD5-A7A6-B598F2011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8"/>
          <p:cNvSpPr/>
          <p:nvPr/>
        </p:nvSpPr>
        <p:spPr>
          <a:xfrm>
            <a:off x="142920" y="1484280"/>
            <a:ext cx="90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обходимо сдела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медлен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услышав информацию об опасности  заражения аварийно химически опасными веществами по месту вашей работы или прожи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Управляющая кнопка: домой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455" name="Скругленный прямоугольник 1"/>
          <p:cNvSpPr/>
          <p:nvPr/>
        </p:nvSpPr>
        <p:spPr>
          <a:xfrm>
            <a:off x="1042920" y="3500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лотно закрыть все двери, окна и форточки, отключить газ и электроприб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кругленный прямоугольник 12"/>
          <p:cNvSpPr/>
          <p:nvPr/>
        </p:nvSpPr>
        <p:spPr>
          <a:xfrm>
            <a:off x="5148360" y="350028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5219640" y="3552480"/>
            <a:ext cx="26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деть гражданский, фильтрующий противогаз или респир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14"/>
          <p:cNvSpPr/>
          <p:nvPr/>
        </p:nvSpPr>
        <p:spPr>
          <a:xfrm>
            <a:off x="104292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2"/>
          <p:cNvSpPr/>
          <p:nvPr/>
        </p:nvSpPr>
        <p:spPr>
          <a:xfrm>
            <a:off x="1116000" y="5229360"/>
            <a:ext cx="271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ходить из очага заражения в направлении, перпендикулярно направлению в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16"/>
          <p:cNvSpPr/>
          <p:nvPr/>
        </p:nvSpPr>
        <p:spPr>
          <a:xfrm>
            <a:off x="5148360" y="5229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5219640" y="5373720"/>
            <a:ext cx="27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уститься в подв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ли подняться на верхний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E8F8-9D4E-4856-A52B-43A5290CCE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8"/>
          <p:cNvSpPr/>
          <p:nvPr/>
        </p:nvSpPr>
        <p:spPr>
          <a:xfrm>
            <a:off x="142920" y="1484280"/>
            <a:ext cx="90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 единый номер вызова экстренных оперативных служб в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Управляющая кнопка: домой 2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466" name="Скругленный прямоугольник 1"/>
          <p:cNvSpPr/>
          <p:nvPr/>
        </p:nvSpPr>
        <p:spPr>
          <a:xfrm>
            <a:off x="1116000" y="321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"/>
          <p:cNvSpPr/>
          <p:nvPr/>
        </p:nvSpPr>
        <p:spPr>
          <a:xfrm>
            <a:off x="5219640" y="3664080"/>
            <a:ext cx="280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кругленный прямоугольник 13"/>
          <p:cNvSpPr/>
          <p:nvPr/>
        </p:nvSpPr>
        <p:spPr>
          <a:xfrm>
            <a:off x="1116000" y="5013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кругленный прямоугольник 14"/>
          <p:cNvSpPr/>
          <p:nvPr/>
        </p:nvSpPr>
        <p:spPr>
          <a:xfrm>
            <a:off x="5148360" y="501336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кругленный прямоугольник 15"/>
          <p:cNvSpPr/>
          <p:nvPr/>
        </p:nvSpPr>
        <p:spPr>
          <a:xfrm>
            <a:off x="5148360" y="3213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3"/>
          <p:cNvSpPr/>
          <p:nvPr/>
        </p:nvSpPr>
        <p:spPr>
          <a:xfrm>
            <a:off x="6231600" y="35733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6231600" y="5373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4"/>
          <p:cNvSpPr/>
          <p:nvPr/>
        </p:nvSpPr>
        <p:spPr>
          <a:xfrm>
            <a:off x="2198880" y="53006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BCC0-DFDC-42CB-907D-4FBF2234C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8"/>
          <p:cNvSpPr/>
          <p:nvPr/>
        </p:nvSpPr>
        <p:spPr>
          <a:xfrm>
            <a:off x="142920" y="1484280"/>
            <a:ext cx="90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относится к простейшим средствам защиты органов дых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478" name="Скругленный прямоугольник 1"/>
          <p:cNvSpPr/>
          <p:nvPr/>
        </p:nvSpPr>
        <p:spPr>
          <a:xfrm>
            <a:off x="1187280" y="3213000"/>
            <a:ext cx="280836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ый прямоугольник 12"/>
          <p:cNvSpPr/>
          <p:nvPr/>
        </p:nvSpPr>
        <p:spPr>
          <a:xfrm>
            <a:off x="5148360" y="5084640"/>
            <a:ext cx="280836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5148360" y="551664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тно-мар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язка (В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14"/>
          <p:cNvSpPr/>
          <p:nvPr/>
        </p:nvSpPr>
        <p:spPr>
          <a:xfrm>
            <a:off x="5148360" y="3213000"/>
            <a:ext cx="280836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кругленный прямоугольник 15"/>
          <p:cNvSpPr/>
          <p:nvPr/>
        </p:nvSpPr>
        <p:spPr>
          <a:xfrm>
            <a:off x="1187280" y="5084640"/>
            <a:ext cx="280836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"/>
          <p:cNvSpPr/>
          <p:nvPr/>
        </p:nvSpPr>
        <p:spPr>
          <a:xfrm>
            <a:off x="1752480" y="551664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юм Л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5148360" y="364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льтрующий противо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E313-AF86-43B1-8A09-7F89731EB9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346560" y="-85680"/>
            <a:ext cx="1695240" cy="14810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аварии с выбросом АХОВ из зоны химического заражения необходимо выход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Управляющая кнопка: домой 21" descr=""/>
          <p:cNvPicPr/>
          <p:nvPr/>
        </p:nvPicPr>
        <p:blipFill>
          <a:blip r:embed="rId2"/>
          <a:stretch/>
        </p:blipFill>
        <p:spPr>
          <a:xfrm>
            <a:off x="8070840" y="281160"/>
            <a:ext cx="1042920" cy="974520"/>
          </a:xfrm>
          <a:prstGeom prst="rect">
            <a:avLst/>
          </a:prstGeom>
          <a:ln w="0">
            <a:noFill/>
          </a:ln>
        </p:spPr>
      </p:pic>
      <p:sp>
        <p:nvSpPr>
          <p:cNvPr id="489" name="Скругленный прямоугольник 1"/>
          <p:cNvSpPr/>
          <p:nvPr/>
        </p:nvSpPr>
        <p:spPr>
          <a:xfrm>
            <a:off x="1042920" y="2637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направлению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5219640" y="39416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ый прямоугольник 13"/>
          <p:cNvSpPr/>
          <p:nvPr/>
        </p:nvSpPr>
        <p:spPr>
          <a:xfrm>
            <a:off x="1042920" y="4365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14"/>
          <p:cNvSpPr/>
          <p:nvPr/>
        </p:nvSpPr>
        <p:spPr>
          <a:xfrm>
            <a:off x="5219640" y="263700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15"/>
          <p:cNvSpPr/>
          <p:nvPr/>
        </p:nvSpPr>
        <p:spPr>
          <a:xfrm>
            <a:off x="5292720" y="4365720"/>
            <a:ext cx="280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1042920" y="472428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ю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3"/>
          <p:cNvSpPr/>
          <p:nvPr/>
        </p:nvSpPr>
        <p:spPr>
          <a:xfrm>
            <a:off x="5435640" y="45813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4"/>
          <p:cNvSpPr/>
          <p:nvPr/>
        </p:nvSpPr>
        <p:spPr>
          <a:xfrm>
            <a:off x="5508720" y="285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люб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35f0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4:43:03Z</dcterms:created>
  <dc:creator>Семенюк С.Д.</dc:creator>
  <dc:description>http://aida.ucoz.ru</dc:description>
  <dc:language>en-US</dc:language>
  <cp:lastModifiedBy>SPEC GO</cp:lastModifiedBy>
  <dcterms:modified xsi:type="dcterms:W3CDTF">2022-09-27T10:48:27Z</dcterms:modified>
  <cp:revision>209</cp:revision>
  <dc:subject/>
  <dc:title>Слайд 1</dc:title>
</cp:coreProperties>
</file>